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A7F9-B284-4E9C-9A2C-4E6508BE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AAD8-20B1-47E4-ADBF-B034D1A6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A04C-568C-4C91-A9E7-3CF763CF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F368-7127-4CC5-A0D4-8ABBCBA8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D44A-82A8-4183-A8A7-1998CDC6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B266-89DD-4202-8DEF-5323C3EA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40FF-4CFC-454A-97EB-8A407E97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C925-C11F-4483-A9C9-79EB9746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C9D0-E70B-4C81-AAF0-9C7B8578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BDAC-F809-4D90-830A-62F15556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104-BC88-4149-BA42-C1561645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3C27-B7F0-40E7-9A92-504C91B0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A436-F10A-42DC-A8D9-7DD6BEA0A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43000" y="43434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50292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6ff66"/>
                </a:solidFill>
                <a:latin typeface="Arial"/>
              </a:rPr>
              <a:t>Voila, je suis en retar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43000" y="396252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6ff66"/>
                </a:solidFill>
                <a:latin typeface="Arial"/>
              </a:rPr>
              <a:t>Arrêter de jouer et attendre, c’est possib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71600" y="480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6ff66"/>
                </a:solidFill>
                <a:latin typeface="Arial"/>
              </a:rPr>
              <a:t>S’il vous plait, attendez-mo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0" y="4572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6ff66"/>
                </a:solidFill>
                <a:latin typeface="Arial"/>
              </a:rPr>
              <a:t>Que fai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6708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47920" y="45720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6ff66"/>
                </a:solidFill>
                <a:latin typeface="Arial"/>
              </a:rPr>
              <a:t>Es-tu en retard toi auss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3880" y="54864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6ff66"/>
                </a:solidFill>
                <a:latin typeface="Arial"/>
              </a:rPr>
              <a:t>Alors, je vais t’attendr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95280" y="43434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Mon </a:t>
            </a:r>
            <a:r>
              <a:rPr b="1" lang="fr-FR" sz="3200" spc="-1" strike="noStrike">
                <a:solidFill>
                  <a:srgbClr val="66ff66"/>
                </a:solidFill>
                <a:latin typeface="Arial"/>
              </a:rPr>
              <a:t>réveil retar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05120" y="5410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6ff66"/>
                </a:solidFill>
                <a:latin typeface="Arial"/>
              </a:rPr>
              <a:t>Je m’habille en vites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71600" y="4724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6ff66"/>
                </a:solidFill>
                <a:latin typeface="Arial"/>
              </a:rPr>
              <a:t>L’autobus est parti sans mo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76520" y="4876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6ff66"/>
                </a:solidFill>
                <a:latin typeface="Arial"/>
              </a:rPr>
              <a:t>J’arrive le derni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5105520"/>
            <a:ext cx="7620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4800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6ff66"/>
                </a:solidFill>
                <a:latin typeface="Arial"/>
              </a:rPr>
              <a:t>S’il vous plait, attendez-mo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62320" y="44197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6ff66"/>
                </a:solidFill>
                <a:latin typeface="Arial"/>
              </a:rPr>
              <a:t>Je n’ai pas fin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44197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6ff66"/>
                </a:solidFill>
                <a:latin typeface="Arial"/>
              </a:rPr>
              <a:t>Mon enseignante dit de ne pas cour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71600" y="51055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6ff66"/>
                </a:solidFill>
                <a:latin typeface="Arial"/>
              </a:rPr>
              <a:t>Je vais encore être en retar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581280"/>
            <a:ext cx="556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12:20Z</dcterms:created>
  <dc:creator>CVJH-LAB</dc:creator>
  <dc:description/>
  <dc:language>en-US</dc:language>
  <cp:lastModifiedBy>nield411</cp:lastModifiedBy>
  <dcterms:modified xsi:type="dcterms:W3CDTF">2008-03-07T18:52:51Z</dcterms:modified>
  <cp:revision>4</cp:revision>
  <dc:subject/>
  <dc:title>Slide 1</dc:title>
</cp:coreProperties>
</file>